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38D05-C0E9-492F-BCB9-5FF26E3E9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eriment on JSP, XML and H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31B8-24BC-40BC-9360-011185A01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6A2D-902A-4CD2-88FE-7826C7088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7586-ED5A-48D6-A044-2345CDDF3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8F29-C68C-48B7-BC61-41D98E107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347D-756D-47C0-BCA5-4DD61B7EF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2406-64E4-4311-804B-09C214548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6C85-D34B-4E06-801A-D085FE140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AA12-96DE-44C3-9192-C3F1237D3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9984-F0DB-4D6B-B2B7-C2FD5138E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0A96-7A63-4DDC-8E01-C4F7F170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9FF6-A2ED-4CB3-82B0-14ACC9C6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6832-CD74-408E-87FF-87A406BB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BC3C2-F572-4B9A-B041-D8999926B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http://hdf.ncsa.uiuc.edu/HDF5/XML/JSPExperiments" TargetMode="External"/><Relationship Id="rId5" Type="http://schemas.openxmlformats.org/officeDocument/2006/relationships/hyperlink" Target="http://arabica.ncsa.uiuc.edu:7070/PathList.jsp" TargetMode="External"/><Relationship Id="rId6" Type="http://schemas.openxmlformats.org/officeDocument/2006/relationships/image" Target="../media/image4.pn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0505"/>
            </a:gs>
            <a:gs pos="100000">
              <a:srgbClr val="1919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447920" y="6094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Experiment on JSP, XML and H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2895480" cy="2104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600200" y="3200400"/>
            <a:ext cx="2536920" cy="2590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886200" y="2286000"/>
            <a:ext cx="2268360" cy="2895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505320" y="5867280"/>
            <a:ext cx="3352680" cy="27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Unicode MS"/>
              </a:rPr>
              <a:t>      </a:t>
            </a:r>
            <a:r>
              <a:rPr b="1" lang="en-US" sz="1400" spc="-1" strike="noStrike">
                <a:solidFill>
                  <a:srgbClr val="dddddd"/>
                </a:solidFill>
                <a:latin typeface="Arial Unicode MS"/>
              </a:rPr>
              <a:t>HDF file conversions: hdf4 to hdf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ddddd"/>
                </a:solidFill>
                <a:latin typeface="Arial Unicode MS"/>
              </a:rPr>
              <a:t>	</a:t>
            </a:r>
            <a:r>
              <a:rPr b="1" lang="en-US" sz="1400" spc="-1" strike="noStrike">
                <a:solidFill>
                  <a:srgbClr val="dddddd"/>
                </a:solidFill>
                <a:latin typeface="Arial Unicode MS"/>
              </a:rPr>
              <a:t>                    </a:t>
            </a:r>
            <a:r>
              <a:rPr b="1" lang="en-US" sz="1400" spc="-1" strike="noStrike">
                <a:solidFill>
                  <a:srgbClr val="dddddd"/>
                </a:solidFill>
                <a:latin typeface="Arial Unicode MS"/>
              </a:rPr>
              <a:t>hdf5 to/from x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ddddd"/>
                </a:solidFill>
                <a:latin typeface="Arial Unicode MS"/>
              </a:rPr>
              <a:t>	</a:t>
            </a:r>
            <a:r>
              <a:rPr b="1" lang="en-US" sz="1400" spc="-1" strike="noStrike">
                <a:solidFill>
                  <a:srgbClr val="dddddd"/>
                </a:solidFill>
                <a:latin typeface="Arial Unicode MS"/>
              </a:rPr>
              <a:t>	</a:t>
            </a:r>
            <a:r>
              <a:rPr b="1" lang="en-US" sz="1400" spc="-1" strike="noStrike">
                <a:solidFill>
                  <a:srgbClr val="dddddd"/>
                </a:solidFill>
                <a:latin typeface="Arial Unicode MS"/>
              </a:rPr>
              <a:t>xml to 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ddddd"/>
                </a:solidFill>
                <a:latin typeface="Arial Unicode MS"/>
              </a:rPr>
              <a:t>            </a:t>
            </a:r>
            <a:r>
              <a:rPr b="1" lang="en-US" sz="1400" spc="-1" strike="noStrike">
                <a:solidFill>
                  <a:srgbClr val="dddddd"/>
                </a:solidFill>
                <a:latin typeface="Arial Unicode MS"/>
              </a:rPr>
              <a:t>with single click on web brows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ddddd"/>
                </a:solidFill>
                <a:latin typeface="Arial Unicode MS"/>
              </a:rPr>
              <a:t>     </a:t>
            </a:r>
            <a:r>
              <a:rPr b="1" lang="en-US" sz="1400" spc="-1" strike="noStrike">
                <a:solidFill>
                  <a:srgbClr val="dddddd"/>
                </a:solidFill>
                <a:latin typeface="Arial Unicode MS"/>
              </a:rPr>
              <a:t>More  can be done with XML, JSP</a:t>
            </a:r>
            <a:r>
              <a:rPr b="1" lang="en-US" sz="1200" spc="-1" strike="noStrike">
                <a:solidFill>
                  <a:srgbClr val="dddddd"/>
                </a:solidFill>
                <a:latin typeface="Arial Unicode MS"/>
              </a:rPr>
              <a:t> ……..</a:t>
            </a:r>
            <a:r>
              <a:rPr b="0" lang="en-US" sz="1200" spc="-1" strike="noStrike">
                <a:solidFill>
                  <a:srgbClr val="dddddd"/>
                </a:solidFill>
                <a:latin typeface="Arial Unicode MS"/>
              </a:rPr>
              <a:t>	</a:t>
            </a:r>
            <a:r>
              <a:rPr b="0" lang="en-US" sz="1200" spc="-1" strike="noStrike">
                <a:solidFill>
                  <a:srgbClr val="dddddd"/>
                </a:solidFill>
                <a:latin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7543800"/>
            <a:ext cx="42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7848720"/>
            <a:ext cx="50292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hdf.ncsa.uiuc.edu/HDF5/XML/JSPExperi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arabica.ncsa.uiuc.edu:7070/PathList.j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6095880" y="8763120"/>
            <a:ext cx="674640" cy="2300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6248520" y="8305920"/>
            <a:ext cx="420480" cy="328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057400" y="8747280"/>
            <a:ext cx="3809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Arial"/>
              </a:rPr>
              <a:t>This experiment is  supported in part by a Cooperative Agreement with NASA under NASA grant NAG 5-2040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5335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CSA HDF5 XML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1219320"/>
            <a:ext cx="5639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Specification of a DTD for an HDF5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1c1c1c"/>
                </a:solidFill>
                <a:latin typeface="Arial"/>
              </a:rPr>
              <a:t>h5gen: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Java tool to generate HDF5 from 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1c1c1c"/>
                </a:solidFill>
                <a:latin typeface="Arial"/>
              </a:rPr>
              <a:t>h5dump --xml:  </a:t>
            </a: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Option to generate 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1c1c1c"/>
                </a:solidFill>
                <a:latin typeface="Arial"/>
              </a:rPr>
              <a:t>h5view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:  </a:t>
            </a: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XML </a:t>
            </a:r>
            <a:r>
              <a:rPr b="1" lang="en-US" sz="1800" spc="-1" strike="noStrike">
                <a:solidFill>
                  <a:srgbClr val="4d4d4d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 HDF5, HDF5 </a:t>
            </a:r>
            <a:r>
              <a:rPr b="1" lang="en-US" sz="1800" spc="-1" strike="noStrike">
                <a:solidFill>
                  <a:srgbClr val="4d4d4d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 X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e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http://hdf.ncsa.uiuc.edu/HDF5/XML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4419720"/>
            <a:ext cx="49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riments with XML and 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5105520"/>
            <a:ext cx="59436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Conversion of HDF4 to HDF5, and HDF5 to XML for selected NASA datasets, including compressed XML vs. HDF.</a:t>
            </a:r>
            <a:br>
              <a:rPr sz="1800"/>
            </a:br>
            <a:br>
              <a:rPr sz="1800"/>
            </a:b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http://hdf.ncsa.uiuc.edu/HDF5/XML/EOSData/h4-h5-xml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ranslate scientific data from netCDF to HDF5, using XML and XSL.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http://hdf.ncsa.uiuc.edu/HDF5/XML/nctoh5/writeup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095880" y="8229600"/>
            <a:ext cx="420840" cy="328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943600" y="8686800"/>
            <a:ext cx="674640" cy="23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2T13:51:25Z</dcterms:created>
  <dc:creator>Kun Yan</dc:creator>
  <dc:description/>
  <dc:language>en-US</dc:language>
  <cp:lastModifiedBy>Kun Yan</cp:lastModifiedBy>
  <dcterms:modified xsi:type="dcterms:W3CDTF">2001-09-14T06:35:16Z</dcterms:modified>
  <cp:revision>11</cp:revision>
  <dc:subject/>
  <dc:title>Slide 1</dc:title>
</cp:coreProperties>
</file>