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18E5A-755C-40E6-96E4-8EAA26E65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3499B-CA3E-449E-82AD-97746561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8782C-5A55-42C8-AACF-11400AD2F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B878B-A3F8-484D-9E9E-243D276B2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3F9E-CBC0-4619-9DEE-8A63C93D4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320D-99A1-486F-82AB-57C46DD6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8F08-1A50-40D4-A363-2CCF7BB8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8871-240D-4BA4-BC7B-6954545B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BC99-DA19-4F6E-82FF-89F8A427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712F-FCD9-4AB5-8A67-58FCA469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A11A-957F-43AC-BD92-A9FC11D3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8D607-DC2C-4348-B4E2-0A49EF02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4025-36AC-46FA-91B9-FC83823F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426C-2E04-4A6A-ACF6-1E2EDA36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99BB-8B29-4055-B946-3D6B821E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C54F-2006-40D8-A237-BAEE0A57A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3A8D-455F-4626-84E4-ED6282D8B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8E6DD-48B8-4F5B-89B6-969DFD57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EC5E6-9DF9-4E8A-9E19-7BF85262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FFDF3-B1D0-4DFD-A162-88FD1637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7D10C-09E9-4EB7-94B5-B2E1884B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B700F-B720-4E72-AD49-4E6ECB94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B82A9-1617-498C-9B14-12A84AB3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F0C79-B8D1-4365-A819-79BAE775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2BFF-C94D-4B3F-A788-870554A47E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0E4D-9EEA-4618-9557-6551818DD9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 Unicode MS"/>
              </a:rPr>
              <a:t>Tomcat and JSP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it wor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162920" y="4724280"/>
            <a:ext cx="1765080" cy="12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809880" y="3124080"/>
            <a:ext cx="762120" cy="457200"/>
          </a:xfrm>
          <a:prstGeom prst="flowChartConnector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a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2743200"/>
            <a:ext cx="1523880" cy="10666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09680" y="4724280"/>
            <a:ext cx="327672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137160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762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imes New Roman"/>
              </a:rPr>
              <a:t>reques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2590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imes New Roman"/>
              </a:rPr>
              <a:t>respon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1295280"/>
            <a:ext cx="1981080" cy="1143000"/>
          </a:xfrm>
          <a:prstGeom prst="rect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1371600"/>
            <a:ext cx="762120" cy="60948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1523880"/>
            <a:ext cx="609480" cy="3070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05320" y="1523880"/>
            <a:ext cx="1523880" cy="609840"/>
          </a:xfrm>
          <a:prstGeom prst="flowChartProcess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JSP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5029200"/>
            <a:ext cx="685800" cy="533520"/>
          </a:xfrm>
          <a:prstGeom prst="flowChartMagneticDisk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D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5029200"/>
            <a:ext cx="762120" cy="457200"/>
          </a:xfrm>
          <a:prstGeom prst="flowChartOnlineStorag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5029200"/>
            <a:ext cx="648000" cy="533520"/>
          </a:xfrm>
          <a:prstGeom prst="horizontalScrol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li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990720"/>
            <a:ext cx="1447560" cy="304560"/>
          </a:xfrm>
          <a:custGeom>
            <a:avLst/>
            <a:gdLst>
              <a:gd name="textAreaLeft" fmla="*/ 253080 w 1447560"/>
              <a:gd name="textAreaRight" fmla="*/ 1049400 w 144756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38480" y="2438280"/>
            <a:ext cx="152640" cy="685800"/>
          </a:xfrm>
          <a:prstGeom prst="upDownArrow">
            <a:avLst>
              <a:gd name="adj1" fmla="val 50000"/>
              <a:gd name="adj2" fmla="val 89442"/>
            </a:avLst>
          </a:prstGeom>
          <a:solidFill>
            <a:srgbClr val="66ffcc"/>
          </a:solidFill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38480" y="3581280"/>
            <a:ext cx="152640" cy="1143000"/>
          </a:xfrm>
          <a:prstGeom prst="upDownArrow">
            <a:avLst>
              <a:gd name="adj1" fmla="val 50000"/>
              <a:gd name="adj2" fmla="val 149071"/>
            </a:avLst>
          </a:prstGeom>
          <a:solidFill>
            <a:srgbClr val="66ffcc"/>
          </a:solidFill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48320" y="3352680"/>
            <a:ext cx="2286000" cy="0"/>
          </a:xfrm>
          <a:prstGeom prst="line">
            <a:avLst/>
          </a:prstGeom>
          <a:ln w="76320">
            <a:solidFill>
              <a:srgbClr val="66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57800" y="2362320"/>
            <a:ext cx="1676520" cy="685800"/>
          </a:xfrm>
          <a:prstGeom prst="line">
            <a:avLst/>
          </a:prstGeom>
          <a:ln w="76320">
            <a:solidFill>
              <a:srgbClr val="cc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1675800" y="2133720"/>
            <a:ext cx="1600200" cy="457200"/>
          </a:xfrm>
          <a:custGeom>
            <a:avLst/>
            <a:gdLst>
              <a:gd name="textAreaLeft" fmla="*/ 307440 w 1600200"/>
              <a:gd name="textAreaRight" fmla="*/ 1132920 w 16002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00" hR="21600" stAng="10800000" swAng="5400000"/>
                <a:lnTo>
                  <a:pt x="11140" y="0"/>
                </a:lnTo>
                <a:arcTo wR="8300" hR="21600" stAng="-5400000" swAng="2842988"/>
                <a:lnTo>
                  <a:pt x="21125" y="14400"/>
                </a:lnTo>
                <a:lnTo>
                  <a:pt x="18020" y="21600"/>
                </a:lnTo>
                <a:lnTo>
                  <a:pt x="13965" y="14400"/>
                </a:lnTo>
                <a:lnTo>
                  <a:pt x="16125" y="14400"/>
                </a:lnTo>
                <a:arcTo wR="8300" hR="21600" stAng="-2557012" swAng="-2613945"/>
                <a:lnTo>
                  <a:pt x="9720" y="318"/>
                </a:lnTo>
                <a:arcTo wR="8300" hR="21600" stAng="-5629042" swAng="-5170958"/>
                <a:close/>
              </a:path>
              <a:path fill="darkenLess" w="21600" h="21600">
                <a:moveTo>
                  <a:pt x="0" y="21600"/>
                </a:moveTo>
                <a:arcTo wR="8300" hR="21600" stAng="10800000" swAng="5400000"/>
                <a:lnTo>
                  <a:pt x="8300" y="0"/>
                </a:lnTo>
                <a:arcTo wR="8300" hR="21600" stAng="-5400000" swAng="229042"/>
                <a:lnTo>
                  <a:pt x="9720" y="318"/>
                </a:lnTo>
                <a:arcTo wR="8300" hR="21600" stAng="-5629042" swAng="-5170958"/>
                <a:close/>
              </a:path>
            </a:pathLst>
          </a:cu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91520" y="4419720"/>
            <a:ext cx="761760" cy="60480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XS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772400" y="3733920"/>
            <a:ext cx="0" cy="685800"/>
          </a:xfrm>
          <a:prstGeom prst="line">
            <a:avLst/>
          </a:prstGeom>
          <a:ln w="572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362320" y="2361960"/>
            <a:ext cx="1676160" cy="2361960"/>
          </a:xfrm>
          <a:prstGeom prst="line">
            <a:avLst/>
          </a:prstGeom>
          <a:ln w="76320">
            <a:solidFill>
              <a:srgbClr val="cc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38880" y="3048120"/>
            <a:ext cx="914400" cy="609480"/>
          </a:xfrm>
          <a:prstGeom prst="flowChartDocumen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X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7009920" y="1447920"/>
            <a:ext cx="1219320" cy="609480"/>
          </a:xfrm>
          <a:prstGeom prst="line">
            <a:avLst/>
          </a:prstGeom>
          <a:ln w="38160">
            <a:solidFill>
              <a:srgbClr val="ccec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33920" y="3124080"/>
            <a:ext cx="761760" cy="457200"/>
          </a:xfrm>
          <a:prstGeom prst="flowChartConnector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a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81280" y="3124080"/>
            <a:ext cx="838440" cy="457200"/>
          </a:xfrm>
          <a:prstGeom prst="flowChartConnector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bea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229600" y="990720"/>
            <a:ext cx="457200" cy="9144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Times New Roman"/>
              </a:rPr>
              <a:t>Xalan.j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cc"/>
                </a:solidFill>
                <a:latin typeface="Times New Roman"/>
              </a:rPr>
              <a:t>Xerces.j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6629040" y="1371600"/>
            <a:ext cx="685800" cy="1295280"/>
          </a:xfrm>
          <a:prstGeom prst="line">
            <a:avLst/>
          </a:prstGeom>
          <a:ln w="76320">
            <a:solidFill>
              <a:srgbClr val="66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685800" y="304920"/>
            <a:ext cx="5867280" cy="533160"/>
          </a:xfrm>
          <a:custGeom>
            <a:avLst/>
            <a:gdLst>
              <a:gd name="textAreaLeft" fmla="*/ 1230480 w 5867280"/>
              <a:gd name="textAreaRight" fmla="*/ 4410360 w 586728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58" hR="21600" stAng="10800000" swAng="5400000"/>
                <a:lnTo>
                  <a:pt x="11706" y="0"/>
                </a:lnTo>
                <a:arcTo wR="9058" hR="21600" stAng="-5400000" swAng="2991691"/>
                <a:lnTo>
                  <a:pt x="21082" y="14399"/>
                </a:lnTo>
                <a:lnTo>
                  <a:pt x="19440" y="21600"/>
                </a:lnTo>
                <a:lnTo>
                  <a:pt x="16762" y="14399"/>
                </a:lnTo>
                <a:lnTo>
                  <a:pt x="17598" y="14399"/>
                </a:lnTo>
                <a:arcTo wR="9058" hR="21600" stAng="-2408309" swAng="-2778954"/>
                <a:lnTo>
                  <a:pt x="10382" y="232"/>
                </a:lnTo>
                <a:arcTo wR="9058" hR="21600" stAng="-5612737" swAng="-5187263"/>
                <a:close/>
              </a:path>
              <a:path fill="darkenLess" w="21600" h="21600">
                <a:moveTo>
                  <a:pt x="0" y="21600"/>
                </a:moveTo>
                <a:arcTo wR="9058" hR="21600" stAng="10800000" swAng="5400000"/>
                <a:lnTo>
                  <a:pt x="9058" y="0"/>
                </a:lnTo>
                <a:arcTo wR="9058" hR="21600" stAng="-5400000" swAng="212737"/>
                <a:lnTo>
                  <a:pt x="10382" y="232"/>
                </a:lnTo>
                <a:arcTo wR="9058" hR="21600" stAng="-5612737" swAng="-5187263"/>
                <a:close/>
              </a:path>
            </a:pathLst>
          </a:cu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72200" y="762120"/>
            <a:ext cx="914400" cy="609480"/>
          </a:xfrm>
          <a:prstGeom prst="flowChartDocumen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HT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07480" y="304200"/>
            <a:ext cx="62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imes New Roman"/>
              </a:rPr>
              <a:t>respon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2680" y="6079680"/>
            <a:ext cx="342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How JSP and Beans Work togeth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00600" y="3886200"/>
            <a:ext cx="1828800" cy="533520"/>
          </a:xfrm>
          <a:prstGeom prst="flowChartConnector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Applic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114440" y="4114800"/>
            <a:ext cx="685800" cy="0"/>
          </a:xfrm>
          <a:prstGeom prst="line">
            <a:avLst/>
          </a:prstGeom>
          <a:ln cap="rnd" w="28440">
            <a:solidFill>
              <a:srgbClr val="99ccff"/>
            </a:solidFill>
            <a:custDash>
              <a:ds d="100000" sp="1000"/>
            </a:custDash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791320" y="3352680"/>
            <a:ext cx="0" cy="533520"/>
          </a:xfrm>
          <a:prstGeom prst="line">
            <a:avLst/>
          </a:prstGeom>
          <a:ln cap="rnd" w="28440">
            <a:solidFill>
              <a:srgbClr val="99ccff"/>
            </a:solidFill>
            <a:custDash>
              <a:ds d="100000" sp="1000"/>
            </a:custDash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eferences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www.apache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www.devx.com/upload/f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jakarta.apache.org/tomcat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java.sun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java.sun.com/products/jsp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omc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 standalone web server that supports the Servlet and JSP specificati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ed under the Jakarta project at the Apache Software Found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ed into the J2EE Reference   Implement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mcat 4.0 Beta 5 (Sevlet 2.3, JSP 1.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mcat 3.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JavaServe Pag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vaServer Pages</a:t>
            </a:r>
            <a:r>
              <a:rPr b="0" lang="en-US" sz="2000" spc="-1" strike="noStrike" baseline="50000">
                <a:solidFill>
                  <a:srgbClr val="ffffff"/>
                </a:solidFill>
                <a:latin typeface="Arial"/>
              </a:rPr>
              <a:t>T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JSP</a:t>
            </a:r>
            <a:r>
              <a:rPr b="0" lang="en-US" sz="2000" spc="-1" strike="noStrike" baseline="50000">
                <a:solidFill>
                  <a:srgbClr val="ffffff"/>
                </a:solidFill>
                <a:latin typeface="Arial"/>
              </a:rPr>
              <a:t>T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echnolog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ly develop and easily maintain, dynamic web p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XML-like tags and Java scriptl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 logic can reside in server-based resourc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133720" y="457200"/>
            <a:ext cx="7010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Flow of a Requ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626112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pecial handling, accomplished with a Web server extension or plug-in, involves four steps 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The JSP engine parses the page and creates a Java source fil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It then compiles the file produced in Step 1 into a Java class file. The class file is a servlet, and from this point on, the servlet engine handles the class file in the same manner as all other servlet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The servlet engine loads the servlet class for execu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 The servlet executes and streams back the results to the requestor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04920" y="4419720"/>
            <a:ext cx="153648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ple JSP code: h5xml.j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%@ page language="java" contentType="text/html" %&gt;                                                             </a:t>
            </a: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jsp:useBean id="h5xml" class="H5XMLBean" scope="session"/&gt;                                                     &lt;jsp:setProperty name="h5xml" property="*"/&gt;                                                                    &lt;/jsp:useBean&gt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&lt;%@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include file="header.html"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%&gt;                                                                                                                                                                                               &lt;h5&gt;Testing: convert h5 file to xml file&lt;/h5&gt;                              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%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=h5xml.getFileName(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%&gt;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&lt;ul&gt;                                                                                                                &lt;li&gt;HDF5 file nam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&lt;%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=h5xml.getH5fileName(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%&gt;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&lt;li&gt;XML file nam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&lt;%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=h5xml.getXmlfileName(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%&gt;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&lt;li&gt;HDF5 lib pat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&lt;%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=h5xml.getLibPath(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%&gt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&lt;/ul&gt;                                                                                                                                                                                                                           Converting ....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%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h5xml.h5ToXml();                                                                                                String done = "testing";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%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ul&gt;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li&gt;&lt;a href="/hdf5/fileList.jsp?fileSuffix=xml"&gt;List of xml files&lt;/a&gt;                                       &lt;/ul&gt;                                                                                                                                                                                                                           &lt;%@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include file="footer.html"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%&g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ple JSP code: fileList.jsp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06668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%@ page language="java" contentType="text/html" %&gt;                                                             </a:t>
            </a: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jsp:useBean id="filelist" class="FileList" scope="session"/&gt;                                                   &lt;jsp:setProperty name="filelist" property="*"/&gt;                                                                 &lt;/jsp:useBean&gt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&lt;%@ include file="header.html" %&gt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%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Object[] files = filelist.getFilesWithSF();                                                                  for (int i=0; i&lt;filelist.getNumFilesWithSF(); i++) {                                                                if ((i%2)==1) {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%&gt; &lt;tr bgcolor=#dddddd&gt;                                                       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%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} else {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%&gt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&lt;tr bgcolor=#ffffff&gt; &lt;%}%&gt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td&gt;&lt;t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gt;&lt;%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=(String)files[i]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%&gt;&lt;/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t&gt;&lt;/td&gt;                                                                                                      &lt;td align=right&gt;&lt;t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gt;&lt;%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=filelist.getFileWithSFSize(i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%&gt;&lt;/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t&gt;&lt;/td&gt;                                                &lt;td align=right&gt;&lt;t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gt;&lt;%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=filelist.getSFLastModified(i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%&gt;&lt;/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t&gt;&lt;/td&gt;                                                &lt;%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if ((filelist.getFileSuffix()).equals("h5")) {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%&gt;                                                            &lt;td align=right&gt;&lt;tt&gt;&lt;form action="/hdf5/h5xml.jsp"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input type="hidden" name="fileName" valu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="&lt;%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=(String)files[i]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%&gt;"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input type="submit" value="get xml file"&gt;&lt;/form&gt;&lt;/tt&gt;&lt;/td&gt;                                               &lt;td align=right&gt;&lt;tt&gt;&lt;form action="/hdf5/h5html.jsp"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input type="hidden" name="fileName" valu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="&lt;%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=(String)files[i]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%&gt;"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input type="submit" value="get html file"&gt;&lt;/form&gt;&lt;/tt&gt;&lt;/td&gt;                                             &lt;%} }%&gt; &lt;/tr&gt; &lt;tr bgcolor=#bbbbbb&gt; &lt;td&gt;&lt;tt&gt;                                                                                                        &lt;strong&gt;Total number of file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&lt;%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=filelist.getNumFilesWithSF(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%&gt;&lt;/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rong&gt;                                        &lt;/tt&gt;&lt;/td&gt;&lt;/tr&gt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sp : index.j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%@ page language="java" contentType="text/html" %&gt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%@ include file="header.html" %&gt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rm action="fileList.jsp"&gt;                                                                                       &lt;font color="blue"&gt;                                                                                             &lt;input type="radio" name="fileSuffix" value="h5"&gt;HDF5 files&lt;BR&gt;                                                 &lt;input type="radio" name="fileSuffix" value="xml"&gt;XML files&lt;BR&gt;                                                 &lt;input type="radio" name="fileSuffix" value="html"&gt;HTML files&lt;BR&gt;                                               &lt;/font&gt;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input type="submit" value="Get file list"&gt;                                                                  &lt;/form&gt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%@ include file=”footer.html" %&gt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Using Java Bean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676160" y="1828440"/>
            <a:ext cx="70102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&lt;jsp:useBean id="filelist" class="FileList" scope="session"/&gt;                                                   &lt;jsp:setProperty name="filelist" property="*"/&gt;                                                                 &lt;/jsp:useBean</a:t>
            </a: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&lt;setProperty name=“filelist” property=“fileSuffix” value=“h5”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&lt;getProperty name=“filelist” property=“fileSuffix”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in FileList.java                                                                                                                                                                                 public void setFileSuffix(String suffix){ fileSuffix = suffix; }                       public String getFileSuffix(){ return fileSuffi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&lt;%=filelist.getFileSuffix()%&gt; (same as getProperty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6T09:08:06Z</dcterms:created>
  <dc:creator>Kun Yan</dc:creator>
  <dc:description/>
  <dc:language>en-US</dc:language>
  <cp:lastModifiedBy>NCSA</cp:lastModifiedBy>
  <dcterms:modified xsi:type="dcterms:W3CDTF">2001-08-16T14:57:52Z</dcterms:modified>
  <cp:revision>10</cp:revision>
  <dc:subject/>
  <dc:title>Tomcat and JSP</dc:title>
</cp:coreProperties>
</file>