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94BC6E-A06F-44BB-8D0E-ECBF71032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DF5 CORBA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F61-01DA-4D7B-AA1F-809994A2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F99-E2B2-45E2-BB0E-7772A3F5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C1B-9796-485A-8D53-2A8DC989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B9C-7F96-41E8-9472-F3DE58BB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5DF-04A1-4CC4-9AF1-55295929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9EC-CBB0-4469-B253-9BA0D079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DA2-6509-42A8-AC33-567B5866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A38-B0D8-4B17-858B-3201E2C6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B4E-6FA9-4168-8D3D-8109A78D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C9B-AF2A-4D49-8E46-AB327BE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79A-A527-46C1-82AD-208E4D2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BC2-2D21-4872-97E2-D5C9EBAB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1223-F92D-493B-9653-E001864E9F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420480" cy="328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77320" y="6400800"/>
            <a:ext cx="8380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abica.ncsa.uiuc.edu:7070/hdf5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s with Remote Access to Scientific Data using HDF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n 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E. McGr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cgrath@ncsa.uiuc.ed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15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3. Experiments with CORB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a demonstration CORBA server that reads HDF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in C++, linked directly to HDF5 libr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a pure-java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ORBA required on the 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from an applet within a standard Web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Technology us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acus 4.1.0 (C++) (free, full sour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va 1.3 or ab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DF5.1.4.3, HDF5 C++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76920" cy="416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8080" y="609480"/>
            <a:ext cx="755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HDF5 CORBA Experiment  -- Design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CORBA Object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HDF5 CORBA Experiment – IDL Fil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odule HDF5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uct ObjInfo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oid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fid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typ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ing na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numOfMembers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ypedef sequence&lt;long&gt; Sizes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uct DatasetInfo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ing na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numOfDim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zes dimSizes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zes dimMaxSizes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dataTypeClass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dataTypeSiz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long storageSiz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uct DatatypeInfo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ing na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typ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siz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terface H5Obj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getObjInfo(out ObjInfo obji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667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getNumAttributes(out long attrNum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openAttributes (out long attr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terface H5DatasetObj:H5Obj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getDatasetInfo(out DatasetInfo dsinfo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ong long getStorageSize(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terface H5GroupObj:H5Obj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bjInfo getGMember(in long fid, in string gName, in long index);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openGroup(in string gName, out H5GroupObj h5gobj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getDatasetInfo(in string dsName, out DatasetInfo dsinfo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openDataset(in string dsName, out H5DatasetObj h5ds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getDataTypeInfo(in string ttName, out DatatypeInfo dtinfo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terface H5FileObj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getTOC(out ObjInfo obji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openRootGroup(out H5GroupObj h5gobj);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terface H5FileAccess{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openH5File(in string fileName, out H5FileObj h5fobj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oid numOfGMembers(in long fileId, in string gName, out long gNum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ring closeH5File(in long fileId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HDF5 CORBA Experiment  -- Design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C++ Servant Object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90512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9051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FileAc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190512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19051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FileObj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8288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2057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1828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Obj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9718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2971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GroupObj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8954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2895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DatasetObj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886200"/>
            <a:ext cx="1295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38862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FileAccess_imp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4191120"/>
            <a:ext cx="1193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::H5Fi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a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File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oseFile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886200"/>
            <a:ext cx="1295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4648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38862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FileObj_imp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4191120"/>
            <a:ext cx="11937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::H5Fi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bj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a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46483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TO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RootGrou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tFileName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7432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7432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4952880"/>
            <a:ext cx="12952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49528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GroupObj_imp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5257800"/>
            <a:ext cx="1193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::H5Grou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a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562720"/>
            <a:ext cx="1218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Grou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GMemb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Dataset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DatasetInfo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DatatypeInfo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31240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3352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3124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Obj_imp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3429000"/>
            <a:ext cx="1193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bj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a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7339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Obj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tObjName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4876920"/>
            <a:ext cx="1295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4876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DatasetObj_imp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62920" y="5181480"/>
            <a:ext cx="1193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5::H5Daras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set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548640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Dataset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StorageSiz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2514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3657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191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0120" y="3581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8098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37339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4343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6483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7480" y="4648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2133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  <a:ea typeface="Arial Unicode MS"/>
              </a:rPr>
              <a:t>HDF5 CORBA Experiment  -- </a:t>
            </a:r>
            <a:br>
              <a:rPr sz="2800"/>
            </a:br>
            <a:r>
              <a:rPr b="0" lang="en-US" sz="2400" spc="-1" strike="noStrike">
                <a:solidFill>
                  <a:srgbClr val="ffe701"/>
                </a:solidFill>
                <a:latin typeface="Arial"/>
                <a:ea typeface="Arial Unicode MS"/>
              </a:rPr>
              <a:t>How to Use the Client Apple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Select file name from drop-down list (file resides corba server sid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Select Flags and Access Property of the selected fi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Click on “open file”  to open the fi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Click on “get file TOC” to get the file object inf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Click on “open root” to open the root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Click on “get group TOC” to get the root group object inf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Click on “iterate group” to get the group member’s info of the root and each sub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Input dataset name including path, then click on “get dataset” to get the dataset  objec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on “get dataset TOC” to get the dataset object inf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on “get storage size” to get the storage size of the opened dataset objec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Input dataset name including path, then click on “get dataset info” to get object info of the given datas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Input datatype name including path, then click on “get datatype info” to get object info of the given datatyp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P experiment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hdf.ncsa.uiuc.edu/HDF5/XML/JSPExperiment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hdf.ncsa.uiuc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hdf.ncsa.uiuc.edu/h4toh5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hdf.ncsa.uiuc.edu/HDF5/XM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hdf.ncsa.uiuc.edu/hdf-java-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4. Discus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581280" y="457200"/>
            <a:ext cx="114300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175248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010280" y="914400"/>
            <a:ext cx="1323000" cy="3276720"/>
            <a:chOff x="7010280" y="914400"/>
            <a:chExt cx="1323000" cy="3276720"/>
          </a:xfrm>
        </p:grpSpPr>
        <p:sp>
          <p:nvSpPr>
            <p:cNvPr id="242" name=""/>
            <p:cNvSpPr/>
            <p:nvPr/>
          </p:nvSpPr>
          <p:spPr>
            <a:xfrm>
              <a:off x="7848720" y="1066680"/>
              <a:ext cx="380880" cy="4572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2590920"/>
              <a:ext cx="76212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ava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Na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10280" y="914400"/>
              <a:ext cx="7621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HD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ibr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 Fi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6600" y="3429000"/>
              <a:ext cx="76212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H5view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t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15200" y="1752480"/>
              <a:ext cx="152280" cy="838440"/>
            </a:xfrm>
            <a:prstGeom prst="upDownArrow">
              <a:avLst>
                <a:gd name="adj1" fmla="val 50000"/>
                <a:gd name="adj2" fmla="val 10960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20360" y="27432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6840" y="297180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26840" y="365760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50520" y="16002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669680" y="1719720"/>
            <a:ext cx="3180600" cy="2021400"/>
            <a:chOff x="1669680" y="1719720"/>
            <a:chExt cx="3180600" cy="2021400"/>
          </a:xfrm>
        </p:grpSpPr>
        <p:sp>
          <p:nvSpPr>
            <p:cNvPr id="252" name=""/>
            <p:cNvSpPr/>
            <p:nvPr/>
          </p:nvSpPr>
          <p:spPr>
            <a:xfrm>
              <a:off x="2563920" y="2643480"/>
              <a:ext cx="7617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pple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4200">
              <a:off x="4049640" y="2223720"/>
              <a:ext cx="152280" cy="1447920"/>
            </a:xfrm>
            <a:prstGeom prst="upDownArrow">
              <a:avLst>
                <a:gd name="adj1" fmla="val 50000"/>
                <a:gd name="adj2" fmla="val 18928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997200">
              <a:off x="2077920" y="1599840"/>
              <a:ext cx="147600" cy="1248120"/>
            </a:xfrm>
            <a:prstGeom prst="upDownArrow">
              <a:avLst>
                <a:gd name="adj1" fmla="val 50000"/>
                <a:gd name="adj2" fmla="val 168339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4901000">
              <a:off x="2062800" y="3164400"/>
              <a:ext cx="131760" cy="752760"/>
            </a:xfrm>
            <a:prstGeom prst="upDownArrow">
              <a:avLst>
                <a:gd name="adj1" fmla="val 50000"/>
                <a:gd name="adj2" fmla="val 1137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18360" y="34052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90720" y="1756080"/>
            <a:ext cx="6167160" cy="2757240"/>
            <a:chOff x="990720" y="1756080"/>
            <a:chExt cx="6167160" cy="2757240"/>
          </a:xfrm>
        </p:grpSpPr>
        <p:sp>
          <p:nvSpPr>
            <p:cNvPr id="258" name=""/>
            <p:cNvSpPr/>
            <p:nvPr/>
          </p:nvSpPr>
          <p:spPr>
            <a:xfrm rot="14308200">
              <a:off x="6408360" y="1466640"/>
              <a:ext cx="152280" cy="1485720"/>
            </a:xfrm>
            <a:prstGeom prst="upDownArrow">
              <a:avLst>
                <a:gd name="adj1" fmla="val 50000"/>
                <a:gd name="adj2" fmla="val 19422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990720" y="2438280"/>
              <a:ext cx="5209920" cy="2075040"/>
              <a:chOff x="990720" y="2438280"/>
              <a:chExt cx="5209920" cy="2075040"/>
            </a:xfrm>
          </p:grpSpPr>
          <p:sp>
            <p:nvSpPr>
              <p:cNvPr id="260" name=""/>
              <p:cNvSpPr/>
              <p:nvPr/>
            </p:nvSpPr>
            <p:spPr>
              <a:xfrm>
                <a:off x="4952880" y="2438280"/>
                <a:ext cx="7621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CORB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Serve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90720" y="3429000"/>
                <a:ext cx="76176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Othe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App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52880" y="3657600"/>
                <a:ext cx="7621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Othe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App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57800" y="3200400"/>
                <a:ext cx="152280" cy="457200"/>
              </a:xfrm>
              <a:prstGeom prst="upDownArrow">
                <a:avLst>
                  <a:gd name="adj1" fmla="val 50000"/>
                  <a:gd name="adj2" fmla="val 5976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2760" y="280368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C++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92760" y="3962520"/>
                <a:ext cx="4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An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20760" y="4267080"/>
                <a:ext cx="4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An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28800" y="3181320"/>
                <a:ext cx="3124080" cy="835200"/>
              </a:xfrm>
              <a:custGeom>
                <a:avLst/>
                <a:gdLst/>
                <a:ahLst/>
                <a:rect l="l" t="t" r="r" b="b"/>
                <a:pathLst>
                  <a:path w="1968" h="526">
                    <a:moveTo>
                      <a:pt x="0" y="492"/>
                    </a:moveTo>
                    <a:cubicBezTo>
                      <a:pt x="420" y="520"/>
                      <a:pt x="872" y="526"/>
                      <a:pt x="1200" y="444"/>
                    </a:cubicBezTo>
                    <a:cubicBezTo>
                      <a:pt x="1528" y="362"/>
                      <a:pt x="1808" y="92"/>
                      <a:pt x="1968" y="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4724280" y="609480"/>
            <a:ext cx="0" cy="4267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609480"/>
            <a:ext cx="0" cy="419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9560" y="464832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Client/Remo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19360" y="464832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Server/Loc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14400" y="533520"/>
            <a:ext cx="6057000" cy="1752480"/>
            <a:chOff x="914400" y="533520"/>
            <a:chExt cx="6057000" cy="1752480"/>
          </a:xfrm>
        </p:grpSpPr>
        <p:sp>
          <p:nvSpPr>
            <p:cNvPr id="273" name=""/>
            <p:cNvSpPr/>
            <p:nvPr/>
          </p:nvSpPr>
          <p:spPr>
            <a:xfrm>
              <a:off x="4952880" y="990720"/>
              <a:ext cx="76212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ava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erve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latfor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174800">
              <a:off x="6687000" y="1160640"/>
              <a:ext cx="149400" cy="417600"/>
            </a:xfrm>
            <a:prstGeom prst="upDownArrow">
              <a:avLst>
                <a:gd name="adj1" fmla="val 50000"/>
                <a:gd name="adj2" fmla="val 5564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4400" y="990720"/>
              <a:ext cx="76212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row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90920" y="533520"/>
              <a:ext cx="7617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0920" y="1523880"/>
              <a:ext cx="7617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7367600">
              <a:off x="4000680" y="342360"/>
              <a:ext cx="152280" cy="1447920"/>
            </a:xfrm>
            <a:prstGeom prst="upDownArrow">
              <a:avLst>
                <a:gd name="adj1" fmla="val 50000"/>
                <a:gd name="adj2" fmla="val 18928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4901000">
              <a:off x="4002120" y="952200"/>
              <a:ext cx="152280" cy="1447560"/>
            </a:xfrm>
            <a:prstGeom prst="upDownArrow">
              <a:avLst>
                <a:gd name="adj1" fmla="val 50000"/>
                <a:gd name="adj2" fmla="val 18923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367600">
              <a:off x="2079720" y="1141200"/>
              <a:ext cx="125280" cy="915840"/>
            </a:xfrm>
            <a:prstGeom prst="upDownArrow">
              <a:avLst>
                <a:gd name="adj1" fmla="val 50000"/>
                <a:gd name="adj2" fmla="val 14553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4901000">
              <a:off x="2068920" y="779400"/>
              <a:ext cx="103320" cy="838440"/>
            </a:xfrm>
            <a:prstGeom prst="upDownArrow">
              <a:avLst>
                <a:gd name="adj1" fmla="val 50000"/>
                <a:gd name="adj2" fmla="val 16154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07680" y="68580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4440" y="1828800"/>
              <a:ext cx="40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n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91320" y="990720"/>
              <a:ext cx="7617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ava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Na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88520" y="685800"/>
              <a:ext cx="58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   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 rot="16174800">
            <a:off x="1124640" y="5274360"/>
            <a:ext cx="149040" cy="417240"/>
          </a:xfrm>
          <a:prstGeom prst="upDownArrow">
            <a:avLst>
              <a:gd name="adj1" fmla="val 50000"/>
              <a:gd name="adj2" fmla="val 557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174800">
            <a:off x="1124640" y="5502960"/>
            <a:ext cx="149040" cy="417240"/>
          </a:xfrm>
          <a:prstGeom prst="upDownArrow">
            <a:avLst>
              <a:gd name="adj1" fmla="val 50000"/>
              <a:gd name="adj2" fmla="val 557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174800">
            <a:off x="1124640" y="5731560"/>
            <a:ext cx="149040" cy="417240"/>
          </a:xfrm>
          <a:prstGeom prst="upDownArrow">
            <a:avLst>
              <a:gd name="adj1" fmla="val 50000"/>
              <a:gd name="adj2" fmla="val 5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11920" y="5359320"/>
            <a:ext cx="176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d Produc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emonstrated in Researc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hould work, but not demonstrat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257800"/>
            <a:ext cx="2590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715000" y="838080"/>
            <a:ext cx="2209680" cy="3006720"/>
            <a:chOff x="5715000" y="838080"/>
            <a:chExt cx="2209680" cy="3006720"/>
          </a:xfrm>
        </p:grpSpPr>
        <p:grpSp>
          <p:nvGrpSpPr>
            <p:cNvPr id="292" name=""/>
            <p:cNvGrpSpPr/>
            <p:nvPr/>
          </p:nvGrpSpPr>
          <p:grpSpPr>
            <a:xfrm>
              <a:off x="5715000" y="838080"/>
              <a:ext cx="2209680" cy="2438640"/>
              <a:chOff x="5715000" y="838080"/>
              <a:chExt cx="2209680" cy="2438640"/>
            </a:xfrm>
          </p:grpSpPr>
          <p:sp>
            <p:nvSpPr>
              <p:cNvPr id="293" name=""/>
              <p:cNvSpPr/>
              <p:nvPr/>
            </p:nvSpPr>
            <p:spPr>
              <a:xfrm>
                <a:off x="6934320" y="2286000"/>
                <a:ext cx="990360" cy="990720"/>
              </a:xfrm>
              <a:prstGeom prst="noSmoking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15000" y="838080"/>
                <a:ext cx="990720" cy="990720"/>
              </a:xfrm>
              <a:prstGeom prst="noSmoking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 rot="18385800">
              <a:off x="6444000" y="2720520"/>
              <a:ext cx="152280" cy="1333440"/>
            </a:xfrm>
            <a:prstGeom prst="upDownArrow">
              <a:avLst>
                <a:gd name="adj1" fmla="val 50000"/>
                <a:gd name="adj2" fmla="val 1743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248600" cy="6248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000640" y="304560"/>
            <a:ext cx="762120" cy="60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HDF5 CORBA Experiment  -- User Interfac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day’s Tal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with JSP, XML, HDF4, HDF5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with CORBA, Java, HDF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14400" y="4572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HDF5 CORBA Experiment  -- Examples of Object Info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04920" y="343080"/>
            <a:ext cx="85341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Times New Roman"/>
              </a:rPr>
              <a:t>Other HDF Tool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191120" y="2514600"/>
            <a:ext cx="1185840" cy="722160"/>
          </a:xfrm>
          <a:prstGeom prst="ellipse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ewer/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4267080"/>
            <a:ext cx="1185840" cy="722520"/>
          </a:xfrm>
          <a:prstGeom prst="ellipse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4724280"/>
            <a:ext cx="1676520" cy="465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3276720"/>
            <a:ext cx="1524240" cy="4651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C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4038480"/>
            <a:ext cx="1600200" cy="4651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5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5880" y="2057400"/>
            <a:ext cx="1524240" cy="4651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5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2666880"/>
            <a:ext cx="1524240" cy="4651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419720"/>
            <a:ext cx="1067040" cy="4651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4419720"/>
            <a:ext cx="414360" cy="309600"/>
          </a:xfrm>
          <a:prstGeom prst="rightArrow">
            <a:avLst>
              <a:gd name="adj1" fmla="val 50000"/>
              <a:gd name="adj2" fmla="val 33459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2819520"/>
            <a:ext cx="1218960" cy="4651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2057400"/>
            <a:ext cx="1371600" cy="4651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5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648000">
            <a:off x="3809880" y="2209320"/>
            <a:ext cx="401760" cy="349200"/>
          </a:xfrm>
          <a:prstGeom prst="rightArrow">
            <a:avLst>
              <a:gd name="adj1" fmla="val 50000"/>
              <a:gd name="adj2" fmla="val 28763"/>
            </a:avLst>
          </a:prstGeom>
          <a:solidFill>
            <a:srgbClr val="3366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20719800">
            <a:off x="3657240" y="2895480"/>
            <a:ext cx="436680" cy="246240"/>
          </a:xfrm>
          <a:prstGeom prst="rightArrow">
            <a:avLst>
              <a:gd name="adj1" fmla="val 50000"/>
              <a:gd name="adj2" fmla="val 44335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648000">
            <a:off x="5334120" y="3200040"/>
            <a:ext cx="401400" cy="349200"/>
          </a:xfrm>
          <a:prstGeom prst="rightArrow">
            <a:avLst>
              <a:gd name="adj1" fmla="val 50000"/>
              <a:gd name="adj2" fmla="val 28737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892400">
            <a:off x="5486040" y="1828440"/>
            <a:ext cx="463680" cy="200160"/>
          </a:xfrm>
          <a:prstGeom prst="rightArrow">
            <a:avLst>
              <a:gd name="adj1" fmla="val 50000"/>
              <a:gd name="adj2" fmla="val 57914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93600">
            <a:off x="5481720" y="2817720"/>
            <a:ext cx="411120" cy="227160"/>
          </a:xfrm>
          <a:prstGeom prst="rightArrow">
            <a:avLst>
              <a:gd name="adj1" fmla="val 80519"/>
              <a:gd name="adj2" fmla="val 46695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20719800">
            <a:off x="5486040" y="2362320"/>
            <a:ext cx="436680" cy="245880"/>
          </a:xfrm>
          <a:prstGeom prst="rightArrow">
            <a:avLst>
              <a:gd name="adj1" fmla="val 50000"/>
              <a:gd name="adj2" fmla="val 44400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776400">
            <a:off x="5576400" y="4630320"/>
            <a:ext cx="411120" cy="308160"/>
          </a:xfrm>
          <a:prstGeom prst="rightArrow">
            <a:avLst>
              <a:gd name="adj1" fmla="val 50000"/>
              <a:gd name="adj2" fmla="val 33353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20719800">
            <a:off x="5597280" y="4417920"/>
            <a:ext cx="436320" cy="246240"/>
          </a:xfrm>
          <a:prstGeom prst="rightArrow">
            <a:avLst>
              <a:gd name="adj1" fmla="val 50000"/>
              <a:gd name="adj2" fmla="val 44298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219320"/>
            <a:ext cx="8382240" cy="4038480"/>
          </a:xfrm>
          <a:prstGeom prst="rect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9862400">
            <a:off x="443160" y="137268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3497400"/>
            <a:ext cx="1218960" cy="4651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9969200">
            <a:off x="3809880" y="3411360"/>
            <a:ext cx="436680" cy="246240"/>
          </a:xfrm>
          <a:prstGeom prst="rightArrow">
            <a:avLst>
              <a:gd name="adj1" fmla="val 50000"/>
              <a:gd name="adj2" fmla="val 44335"/>
            </a:avLst>
          </a:prstGeom>
          <a:solidFill>
            <a:srgbClr val="3366cc"/>
          </a:solidFill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1600200" y="2056680"/>
            <a:ext cx="533520" cy="1676520"/>
          </a:xfrm>
          <a:custGeom>
            <a:avLst/>
            <a:gdLst>
              <a:gd name="textAreaLeft" fmla="*/ 71280 w 533520"/>
              <a:gd name="textAreaRight" fmla="*/ 462240 w 533520"/>
              <a:gd name="textAreaTop" fmla="*/ 299880 h 1676520"/>
              <a:gd name="textAreaBottom" fmla="*/ 118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2" stAng="-5400000" swAng="5400000"/>
                <a:lnTo>
                  <a:pt x="21600" y="11374"/>
                </a:lnTo>
                <a:arcTo wR="21600" hR="7732" stAng="0" swAng="2721194"/>
                <a:lnTo>
                  <a:pt x="7200" y="21158"/>
                </a:lnTo>
                <a:lnTo>
                  <a:pt x="0" y="17284"/>
                </a:lnTo>
                <a:lnTo>
                  <a:pt x="7200" y="12526"/>
                </a:lnTo>
                <a:lnTo>
                  <a:pt x="7200" y="15021"/>
                </a:lnTo>
                <a:arcTo wR="21600" hR="7732" stAng="2721194" swAng="-2423728"/>
                <a:lnTo>
                  <a:pt x="20992" y="9553"/>
                </a:lnTo>
                <a:arcTo wR="21600" hR="7732" stAng="-297466" swAng="-5102534"/>
                <a:close/>
              </a:path>
              <a:path fill="darkenLess" w="21600" h="21600">
                <a:moveTo>
                  <a:pt x="0" y="0"/>
                </a:moveTo>
                <a:arcTo wR="21600" hR="7732" stAng="-5400000" swAng="5400000"/>
                <a:lnTo>
                  <a:pt x="21600" y="11374"/>
                </a:lnTo>
                <a:arcTo wR="21600" hR="7732" stAng="0" swAng="-297466"/>
                <a:lnTo>
                  <a:pt x="20992" y="9553"/>
                </a:lnTo>
                <a:arcTo wR="21600" hR="7732" stAng="-297466" swAng="-5102534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590920"/>
            <a:ext cx="1185840" cy="722160"/>
          </a:xfrm>
          <a:prstGeom prst="ellipse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4toh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95880" y="1447920"/>
            <a:ext cx="1524240" cy="46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343400" y="1162080"/>
            <a:ext cx="1185840" cy="743040"/>
          </a:xfrm>
          <a:prstGeom prst="ellipse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m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48520" y="762120"/>
            <a:ext cx="1600200" cy="4777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 D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1219320"/>
            <a:ext cx="1219320" cy="4777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5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1314360"/>
            <a:ext cx="1600200" cy="47808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1238400"/>
            <a:ext cx="414360" cy="318960"/>
          </a:xfrm>
          <a:prstGeom prst="rightArrow">
            <a:avLst>
              <a:gd name="adj1" fmla="val 50000"/>
              <a:gd name="adj2" fmla="val 32477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93600">
            <a:off x="5668920" y="1309680"/>
            <a:ext cx="411120" cy="325440"/>
          </a:xfrm>
          <a:prstGeom prst="rightArrow">
            <a:avLst>
              <a:gd name="adj1" fmla="val 50000"/>
              <a:gd name="adj2" fmla="val 31582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20719800">
            <a:off x="5638680" y="914400"/>
            <a:ext cx="436680" cy="247680"/>
          </a:xfrm>
          <a:prstGeom prst="rightArrow">
            <a:avLst>
              <a:gd name="adj1" fmla="val 50000"/>
              <a:gd name="adj2" fmla="val 44077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9862400">
            <a:off x="844920" y="1490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on-Java 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2133720"/>
            <a:ext cx="1185840" cy="742680"/>
          </a:xfrm>
          <a:prstGeom prst="ellipse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4toh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2286000"/>
            <a:ext cx="1219320" cy="4777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4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2362320"/>
            <a:ext cx="414360" cy="318960"/>
          </a:xfrm>
          <a:prstGeom prst="rightArrow">
            <a:avLst>
              <a:gd name="adj1" fmla="val 50000"/>
              <a:gd name="adj2" fmla="val 32477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362320"/>
            <a:ext cx="1600200" cy="4777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93600">
            <a:off x="5638680" y="2362320"/>
            <a:ext cx="411120" cy="325440"/>
          </a:xfrm>
          <a:prstGeom prst="rightArrow">
            <a:avLst>
              <a:gd name="adj1" fmla="val 50000"/>
              <a:gd name="adj2" fmla="val 31582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3733920"/>
            <a:ext cx="1185840" cy="742680"/>
          </a:xfrm>
          <a:prstGeom prst="ellipse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5toh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14600" y="3886200"/>
            <a:ext cx="1219320" cy="4777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5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3962520"/>
            <a:ext cx="414360" cy="318960"/>
          </a:xfrm>
          <a:prstGeom prst="rightArrow">
            <a:avLst>
              <a:gd name="adj1" fmla="val 50000"/>
              <a:gd name="adj2" fmla="val 32477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3962520"/>
            <a:ext cx="1600200" cy="4777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93600">
            <a:off x="5638680" y="3962520"/>
            <a:ext cx="411120" cy="325440"/>
          </a:xfrm>
          <a:prstGeom prst="rightArrow">
            <a:avLst>
              <a:gd name="adj1" fmla="val 50000"/>
              <a:gd name="adj2" fmla="val 31582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4572000"/>
            <a:ext cx="1185840" cy="743040"/>
          </a:xfrm>
          <a:prstGeom prst="ellipse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f2h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4724280"/>
            <a:ext cx="1143000" cy="47808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F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4800600"/>
            <a:ext cx="414360" cy="318960"/>
          </a:xfrm>
          <a:prstGeom prst="rightArrow">
            <a:avLst>
              <a:gd name="adj1" fmla="val 50000"/>
              <a:gd name="adj2" fmla="val 32477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2200" y="4800600"/>
            <a:ext cx="1600200" cy="4777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93600">
            <a:off x="5562720" y="4800600"/>
            <a:ext cx="411120" cy="325440"/>
          </a:xfrm>
          <a:prstGeom prst="rightArrow">
            <a:avLst>
              <a:gd name="adj1" fmla="val 50000"/>
              <a:gd name="adj2" fmla="val 31582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5505480"/>
            <a:ext cx="1185840" cy="743040"/>
          </a:xfrm>
          <a:prstGeom prst="ellipse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p2h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5657760"/>
            <a:ext cx="1143000" cy="47808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t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5734080"/>
            <a:ext cx="414360" cy="318960"/>
          </a:xfrm>
          <a:prstGeom prst="rightArrow">
            <a:avLst>
              <a:gd name="adj1" fmla="val 50000"/>
              <a:gd name="adj2" fmla="val 32477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72200" y="5734080"/>
            <a:ext cx="1600200" cy="47772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F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93600">
            <a:off x="5562720" y="5734080"/>
            <a:ext cx="411120" cy="325440"/>
          </a:xfrm>
          <a:prstGeom prst="rightArrow">
            <a:avLst>
              <a:gd name="adj1" fmla="val 50000"/>
              <a:gd name="adj2" fmla="val 31582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048120"/>
            <a:ext cx="914400" cy="5331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4 to H5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551600">
            <a:off x="3886200" y="2743200"/>
            <a:ext cx="414360" cy="318960"/>
          </a:xfrm>
          <a:prstGeom prst="rightArrow">
            <a:avLst>
              <a:gd name="adj1" fmla="val 50000"/>
              <a:gd name="adj2" fmla="val 32477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9792200">
            <a:off x="5562360" y="2798640"/>
            <a:ext cx="411120" cy="325440"/>
          </a:xfrm>
          <a:prstGeom prst="rightArrow">
            <a:avLst>
              <a:gd name="adj1" fmla="val 50000"/>
              <a:gd name="adj2" fmla="val 31582"/>
            </a:avLst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illy XMLTric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97360" y="1763640"/>
            <a:ext cx="316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etcdf to HDF5, via XML using XS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2514600"/>
            <a:ext cx="685800" cy="304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c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2438280"/>
            <a:ext cx="914400" cy="38124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cxd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2438280"/>
            <a:ext cx="685800" cy="304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c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2590920"/>
            <a:ext cx="685800" cy="533160"/>
          </a:xfrm>
          <a:prstGeom prst="foldedCorner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cdf.dt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3962520"/>
            <a:ext cx="990720" cy="3808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5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3124080"/>
            <a:ext cx="914400" cy="38124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a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3429000"/>
            <a:ext cx="685800" cy="533520"/>
          </a:xfrm>
          <a:prstGeom prst="foldedCorner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ctoh5.x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8120" y="3886200"/>
            <a:ext cx="914400" cy="38088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5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3962520"/>
            <a:ext cx="685800" cy="304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df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90920" y="25909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514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590920" y="3962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114080" y="39625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4952520" y="28195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4990680" y="3619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86040" y="29718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5562360" y="342864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P experiment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hdf.ncsa.uiuc.edu/HDF5/XML/JSPExperiment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hdf.ncsa.uiuc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hdf.ncsa.uiuc.edu/h4toh5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hdf.ncsa.uiuc.edu/HDF5/XM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hdf.ncsa.uiuc.edu/hdf-java-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851120"/>
            <a:ext cx="769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Kun Yan conducted these experiments as a Research Assistant at NC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is report is based upon work supported in part by a Cooperative Agreement with NASA under NASA grants NAG 5-2040 and NCC5-599. Any opinions, findings, and conclusions or recommendations expressed in this material are those of the author(s) and do not necessarily reflect the views of the National Aeronautics and Space Administr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her support provided by NCSA and other sponsors and agenci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457200"/>
            <a:ext cx="114300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1752480"/>
            <a:ext cx="152280" cy="685800"/>
          </a:xfrm>
          <a:prstGeom prst="upDownArrow">
            <a:avLst>
              <a:gd name="adj1" fmla="val 50000"/>
              <a:gd name="adj2" fmla="val 89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010280" y="914400"/>
            <a:ext cx="1323000" cy="3276720"/>
            <a:chOff x="7010280" y="914400"/>
            <a:chExt cx="1323000" cy="3276720"/>
          </a:xfrm>
        </p:grpSpPr>
        <p:sp>
          <p:nvSpPr>
            <p:cNvPr id="59" name=""/>
            <p:cNvSpPr/>
            <p:nvPr/>
          </p:nvSpPr>
          <p:spPr>
            <a:xfrm>
              <a:off x="7848720" y="1066680"/>
              <a:ext cx="380880" cy="4572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86600" y="2590920"/>
              <a:ext cx="76212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ava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Na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10280" y="914400"/>
              <a:ext cx="7621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HD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ibra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 Fi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86600" y="3429000"/>
              <a:ext cx="76212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H5view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t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15200" y="1752480"/>
              <a:ext cx="152280" cy="838440"/>
            </a:xfrm>
            <a:prstGeom prst="upDownArrow">
              <a:avLst>
                <a:gd name="adj1" fmla="val 50000"/>
                <a:gd name="adj2" fmla="val 10960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0360" y="27432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6840" y="297180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6840" y="365760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50520" y="16002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669680" y="1719720"/>
            <a:ext cx="3180600" cy="2021400"/>
            <a:chOff x="1669680" y="1719720"/>
            <a:chExt cx="3180600" cy="2021400"/>
          </a:xfrm>
        </p:grpSpPr>
        <p:sp>
          <p:nvSpPr>
            <p:cNvPr id="69" name=""/>
            <p:cNvSpPr/>
            <p:nvPr/>
          </p:nvSpPr>
          <p:spPr>
            <a:xfrm>
              <a:off x="2563920" y="2643480"/>
              <a:ext cx="7617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pple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4200">
              <a:off x="4049640" y="2223720"/>
              <a:ext cx="152280" cy="1447920"/>
            </a:xfrm>
            <a:prstGeom prst="upDownArrow">
              <a:avLst>
                <a:gd name="adj1" fmla="val 50000"/>
                <a:gd name="adj2" fmla="val 18928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8997200">
              <a:off x="2077920" y="1599840"/>
              <a:ext cx="147600" cy="1248120"/>
            </a:xfrm>
            <a:prstGeom prst="upDownArrow">
              <a:avLst>
                <a:gd name="adj1" fmla="val 50000"/>
                <a:gd name="adj2" fmla="val 168339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4901000">
              <a:off x="2062800" y="3164400"/>
              <a:ext cx="131760" cy="752760"/>
            </a:xfrm>
            <a:prstGeom prst="upDownArrow">
              <a:avLst>
                <a:gd name="adj1" fmla="val 50000"/>
                <a:gd name="adj2" fmla="val 1137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18360" y="34052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990720" y="1756080"/>
            <a:ext cx="6167160" cy="2757240"/>
            <a:chOff x="990720" y="1756080"/>
            <a:chExt cx="6167160" cy="2757240"/>
          </a:xfrm>
        </p:grpSpPr>
        <p:sp>
          <p:nvSpPr>
            <p:cNvPr id="75" name=""/>
            <p:cNvSpPr/>
            <p:nvPr/>
          </p:nvSpPr>
          <p:spPr>
            <a:xfrm rot="14308200">
              <a:off x="6408360" y="1466640"/>
              <a:ext cx="152280" cy="1485720"/>
            </a:xfrm>
            <a:prstGeom prst="upDownArrow">
              <a:avLst>
                <a:gd name="adj1" fmla="val 50000"/>
                <a:gd name="adj2" fmla="val 19422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990720" y="2438280"/>
              <a:ext cx="5209920" cy="2075040"/>
              <a:chOff x="990720" y="2438280"/>
              <a:chExt cx="5209920" cy="2075040"/>
            </a:xfrm>
          </p:grpSpPr>
          <p:sp>
            <p:nvSpPr>
              <p:cNvPr id="77" name=""/>
              <p:cNvSpPr/>
              <p:nvPr/>
            </p:nvSpPr>
            <p:spPr>
              <a:xfrm>
                <a:off x="4952880" y="2438280"/>
                <a:ext cx="7621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CORB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Serve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90720" y="3429000"/>
                <a:ext cx="76176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Othe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App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2880" y="3657600"/>
                <a:ext cx="7621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Other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App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257800" y="3200400"/>
                <a:ext cx="152280" cy="457200"/>
              </a:xfrm>
              <a:prstGeom prst="upDownArrow">
                <a:avLst>
                  <a:gd name="adj1" fmla="val 50000"/>
                  <a:gd name="adj2" fmla="val 5976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92760" y="280368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C++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792760" y="3962520"/>
                <a:ext cx="4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An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220760" y="4267080"/>
                <a:ext cx="4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An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828800" y="3181320"/>
                <a:ext cx="3124080" cy="835200"/>
              </a:xfrm>
              <a:custGeom>
                <a:avLst/>
                <a:gdLst/>
                <a:ahLst/>
                <a:rect l="l" t="t" r="r" b="b"/>
                <a:pathLst>
                  <a:path w="1968" h="526">
                    <a:moveTo>
                      <a:pt x="0" y="492"/>
                    </a:moveTo>
                    <a:cubicBezTo>
                      <a:pt x="420" y="520"/>
                      <a:pt x="872" y="526"/>
                      <a:pt x="1200" y="444"/>
                    </a:cubicBezTo>
                    <a:cubicBezTo>
                      <a:pt x="1528" y="362"/>
                      <a:pt x="1808" y="92"/>
                      <a:pt x="1968" y="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4724280" y="609480"/>
            <a:ext cx="0" cy="4267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609480"/>
            <a:ext cx="0" cy="419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9560" y="464832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Client/Remo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19360" y="464832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Server/Loc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533520"/>
            <a:ext cx="6057000" cy="1752480"/>
            <a:chOff x="914400" y="533520"/>
            <a:chExt cx="6057000" cy="1752480"/>
          </a:xfrm>
        </p:grpSpPr>
        <p:sp>
          <p:nvSpPr>
            <p:cNvPr id="90" name=""/>
            <p:cNvSpPr/>
            <p:nvPr/>
          </p:nvSpPr>
          <p:spPr>
            <a:xfrm>
              <a:off x="4952880" y="990720"/>
              <a:ext cx="76212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ava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erve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latfor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174800">
              <a:off x="6687000" y="1160640"/>
              <a:ext cx="149400" cy="417600"/>
            </a:xfrm>
            <a:prstGeom prst="upDownArrow">
              <a:avLst>
                <a:gd name="adj1" fmla="val 50000"/>
                <a:gd name="adj2" fmla="val 5564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4400" y="990720"/>
              <a:ext cx="76212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row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90920" y="533520"/>
              <a:ext cx="7617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90920" y="1523880"/>
              <a:ext cx="7617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7367600">
              <a:off x="4000680" y="342360"/>
              <a:ext cx="152280" cy="1447920"/>
            </a:xfrm>
            <a:prstGeom prst="upDownArrow">
              <a:avLst>
                <a:gd name="adj1" fmla="val 50000"/>
                <a:gd name="adj2" fmla="val 18928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4901000">
              <a:off x="4002120" y="952200"/>
              <a:ext cx="152280" cy="1447560"/>
            </a:xfrm>
            <a:prstGeom prst="upDownArrow">
              <a:avLst>
                <a:gd name="adj1" fmla="val 50000"/>
                <a:gd name="adj2" fmla="val 18923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7367600">
              <a:off x="2079720" y="1141200"/>
              <a:ext cx="125280" cy="915840"/>
            </a:xfrm>
            <a:prstGeom prst="upDownArrow">
              <a:avLst>
                <a:gd name="adj1" fmla="val 50000"/>
                <a:gd name="adj2" fmla="val 14553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4901000">
              <a:off x="2068920" y="779400"/>
              <a:ext cx="103320" cy="838440"/>
            </a:xfrm>
            <a:prstGeom prst="upDownArrow">
              <a:avLst>
                <a:gd name="adj1" fmla="val 50000"/>
                <a:gd name="adj2" fmla="val 16154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7680" y="68580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44440" y="1828800"/>
              <a:ext cx="40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n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990720"/>
              <a:ext cx="76176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ava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Na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8520" y="685800"/>
              <a:ext cx="58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ava   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16174800">
            <a:off x="1124640" y="5274360"/>
            <a:ext cx="149040" cy="417240"/>
          </a:xfrm>
          <a:prstGeom prst="upDownArrow">
            <a:avLst>
              <a:gd name="adj1" fmla="val 50000"/>
              <a:gd name="adj2" fmla="val 557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174800">
            <a:off x="1124640" y="5502960"/>
            <a:ext cx="149040" cy="417240"/>
          </a:xfrm>
          <a:prstGeom prst="upDownArrow">
            <a:avLst>
              <a:gd name="adj1" fmla="val 50000"/>
              <a:gd name="adj2" fmla="val 557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174800">
            <a:off x="1124640" y="5731560"/>
            <a:ext cx="149040" cy="417240"/>
          </a:xfrm>
          <a:prstGeom prst="upDownArrow">
            <a:avLst>
              <a:gd name="adj1" fmla="val 50000"/>
              <a:gd name="adj2" fmla="val 55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11920" y="5359320"/>
            <a:ext cx="176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tributed Produc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emonstrated in Researc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hould work, but not demonstrat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257800"/>
            <a:ext cx="2590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838080"/>
            <a:ext cx="2209680" cy="3006720"/>
            <a:chOff x="5715000" y="838080"/>
            <a:chExt cx="2209680" cy="3006720"/>
          </a:xfrm>
        </p:grpSpPr>
        <p:grpSp>
          <p:nvGrpSpPr>
            <p:cNvPr id="109" name=""/>
            <p:cNvGrpSpPr/>
            <p:nvPr/>
          </p:nvGrpSpPr>
          <p:grpSpPr>
            <a:xfrm>
              <a:off x="5715000" y="838080"/>
              <a:ext cx="2209680" cy="2438640"/>
              <a:chOff x="5715000" y="838080"/>
              <a:chExt cx="2209680" cy="2438640"/>
            </a:xfrm>
          </p:grpSpPr>
          <p:sp>
            <p:nvSpPr>
              <p:cNvPr id="110" name=""/>
              <p:cNvSpPr/>
              <p:nvPr/>
            </p:nvSpPr>
            <p:spPr>
              <a:xfrm>
                <a:off x="6934320" y="2286000"/>
                <a:ext cx="990360" cy="990720"/>
              </a:xfrm>
              <a:prstGeom prst="noSmoking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15000" y="838080"/>
                <a:ext cx="990720" cy="990720"/>
              </a:xfrm>
              <a:prstGeom prst="noSmoking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18385800">
              <a:off x="6444000" y="2720520"/>
              <a:ext cx="152280" cy="1333440"/>
            </a:xfrm>
            <a:prstGeom prst="upDownArrow">
              <a:avLst>
                <a:gd name="adj1" fmla="val 50000"/>
                <a:gd name="adj2" fmla="val 1743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Experiments with JS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with JSP, XML, XS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access to Data and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 of browsing HDF5 data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 HTML or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 data from HDF4 to HDF5 on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arabica.ncsa.uiuc.edu:7070/hdf5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mc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tandalone web server that supports the Servlet and JSP specific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under the Jakarta project at the Apache Software Found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into the J2EE Reference   Implem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cat 4.x (Catalina, Servlet 2.3, JSP 1.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cat 3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vaServer P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vaServer Pages</a:t>
            </a:r>
            <a:r>
              <a:rPr b="0" lang="en-US" sz="2400" spc="-1" strike="noStrike" baseline="50000">
                <a:solidFill>
                  <a:srgbClr val="ffffff"/>
                </a:solidFill>
                <a:latin typeface="Arial"/>
              </a:rPr>
              <a:t>T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SP</a:t>
            </a:r>
            <a:r>
              <a:rPr b="0" lang="en-US" sz="2400" spc="-1" strike="noStrike" baseline="50000">
                <a:solidFill>
                  <a:srgbClr val="ffffff"/>
                </a:solidFill>
                <a:latin typeface="Arial"/>
              </a:rPr>
              <a:t>T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chn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ly develop and easily maintain, dynamic web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XML-like tags and Java script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logic can reside in server-based re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533520"/>
            <a:ext cx="6172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Flow of a Re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611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3124080"/>
            <a:ext cx="762120" cy="457200"/>
          </a:xfrm>
          <a:prstGeom prst="flowChartConnector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2743200"/>
            <a:ext cx="1523880" cy="10666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724280"/>
            <a:ext cx="3276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13716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762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2590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295280"/>
            <a:ext cx="198108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371600"/>
            <a:ext cx="762120" cy="6094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523880"/>
            <a:ext cx="609480" cy="30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523880"/>
            <a:ext cx="1523880" cy="609840"/>
          </a:xfrm>
          <a:prstGeom prst="flowChartProcess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JS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5029200"/>
            <a:ext cx="685800" cy="53352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029200"/>
            <a:ext cx="762120" cy="45720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5029200"/>
            <a:ext cx="648000" cy="5335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990720"/>
            <a:ext cx="1447560" cy="30456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438280"/>
            <a:ext cx="152640" cy="685800"/>
          </a:xfrm>
          <a:prstGeom prst="upDownArrow">
            <a:avLst>
              <a:gd name="adj1" fmla="val 50000"/>
              <a:gd name="adj2" fmla="val 89442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3581280"/>
            <a:ext cx="152640" cy="1143000"/>
          </a:xfrm>
          <a:prstGeom prst="upDownArrow">
            <a:avLst>
              <a:gd name="adj1" fmla="val 50000"/>
              <a:gd name="adj2" fmla="val 149071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3352680"/>
            <a:ext cx="2286000" cy="0"/>
          </a:xfrm>
          <a:prstGeom prst="line">
            <a:avLst/>
          </a:prstGeom>
          <a:ln w="76320">
            <a:solidFill>
              <a:srgbClr val="66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2362320"/>
            <a:ext cx="1676520" cy="685800"/>
          </a:xfrm>
          <a:prstGeom prst="line">
            <a:avLst/>
          </a:prstGeom>
          <a:ln w="76320">
            <a:solidFill>
              <a:srgbClr val="cc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675800" y="2133720"/>
            <a:ext cx="1600200" cy="457200"/>
          </a:xfrm>
          <a:custGeom>
            <a:avLst/>
            <a:gdLst>
              <a:gd name="textAreaLeft" fmla="*/ 307440 w 1600200"/>
              <a:gd name="textAreaRight" fmla="*/ 113292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00" hR="21600" stAng="10800000" swAng="5400000"/>
                <a:lnTo>
                  <a:pt x="11140" y="0"/>
                </a:lnTo>
                <a:arcTo wR="8300" hR="21600" stAng="-5400000" swAng="2842988"/>
                <a:lnTo>
                  <a:pt x="21125" y="14400"/>
                </a:lnTo>
                <a:lnTo>
                  <a:pt x="18020" y="21600"/>
                </a:lnTo>
                <a:lnTo>
                  <a:pt x="13965" y="14400"/>
                </a:lnTo>
                <a:lnTo>
                  <a:pt x="16125" y="14400"/>
                </a:lnTo>
                <a:arcTo wR="8300" hR="21600" stAng="-2557012" swAng="-2613945"/>
                <a:lnTo>
                  <a:pt x="9720" y="318"/>
                </a:lnTo>
                <a:arcTo wR="8300" hR="21600" stAng="-5629042" swAng="-5170958"/>
                <a:close/>
              </a:path>
              <a:path fill="darkenLess" w="21600" h="21600">
                <a:moveTo>
                  <a:pt x="0" y="21600"/>
                </a:moveTo>
                <a:arcTo wR="8300" hR="21600" stAng="10800000" swAng="5400000"/>
                <a:lnTo>
                  <a:pt x="8300" y="0"/>
                </a:lnTo>
                <a:arcTo wR="8300" hR="21600" stAng="-5400000" swAng="229042"/>
                <a:lnTo>
                  <a:pt x="9720" y="318"/>
                </a:lnTo>
                <a:arcTo wR="8300" hR="21600" stAng="-5629042" swAng="-5170958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4419720"/>
            <a:ext cx="761760" cy="60480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X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3733920"/>
            <a:ext cx="0" cy="685800"/>
          </a:xfrm>
          <a:prstGeom prst="line">
            <a:avLst/>
          </a:prstGeom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362320" y="2361960"/>
            <a:ext cx="1676160" cy="2361960"/>
          </a:xfrm>
          <a:prstGeom prst="line">
            <a:avLst/>
          </a:prstGeom>
          <a:ln w="76320">
            <a:solidFill>
              <a:srgbClr val="cc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3048120"/>
            <a:ext cx="914400" cy="609480"/>
          </a:xfrm>
          <a:prstGeom prst="flowChartDocumen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09920" y="1447920"/>
            <a:ext cx="1219320" cy="609480"/>
          </a:xfrm>
          <a:prstGeom prst="line">
            <a:avLst/>
          </a:prstGeom>
          <a:ln w="38160">
            <a:solidFill>
              <a:srgbClr val="00b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124080"/>
            <a:ext cx="761760" cy="457200"/>
          </a:xfrm>
          <a:prstGeom prst="flowChartConnector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3124080"/>
            <a:ext cx="838440" cy="457200"/>
          </a:xfrm>
          <a:prstGeom prst="flowChartConnector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990720"/>
            <a:ext cx="457200" cy="9144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Times New Roman"/>
              </a:rPr>
              <a:t>Xalan.j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Times New Roman"/>
              </a:rPr>
              <a:t>Xerces.j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629040" y="1371600"/>
            <a:ext cx="685800" cy="1295280"/>
          </a:xfrm>
          <a:prstGeom prst="line">
            <a:avLst/>
          </a:prstGeom>
          <a:ln w="7632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85800" y="304920"/>
            <a:ext cx="5867280" cy="533160"/>
          </a:xfrm>
          <a:custGeom>
            <a:avLst/>
            <a:gdLst>
              <a:gd name="textAreaLeft" fmla="*/ 1230480 w 5867280"/>
              <a:gd name="textAreaRight" fmla="*/ 4410360 w 58672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8" hR="21600" stAng="10800000" swAng="5400000"/>
                <a:lnTo>
                  <a:pt x="11706" y="0"/>
                </a:lnTo>
                <a:arcTo wR="9058" hR="21600" stAng="-5400000" swAng="2991691"/>
                <a:lnTo>
                  <a:pt x="21082" y="14399"/>
                </a:lnTo>
                <a:lnTo>
                  <a:pt x="19440" y="21600"/>
                </a:lnTo>
                <a:lnTo>
                  <a:pt x="16762" y="14399"/>
                </a:lnTo>
                <a:lnTo>
                  <a:pt x="17598" y="14399"/>
                </a:lnTo>
                <a:arcTo wR="9058" hR="21600" stAng="-2408309" swAng="-2778954"/>
                <a:lnTo>
                  <a:pt x="10382" y="232"/>
                </a:lnTo>
                <a:arcTo wR="9058" hR="21600" stAng="-5612737" swAng="-5187263"/>
                <a:close/>
              </a:path>
              <a:path fill="darkenLess" w="21600" h="21600">
                <a:moveTo>
                  <a:pt x="0" y="21600"/>
                </a:moveTo>
                <a:arcTo wR="9058" hR="21600" stAng="10800000" swAng="5400000"/>
                <a:lnTo>
                  <a:pt x="9058" y="0"/>
                </a:lnTo>
                <a:arcTo wR="9058" hR="21600" stAng="-5400000" swAng="212737"/>
                <a:lnTo>
                  <a:pt x="10382" y="232"/>
                </a:lnTo>
                <a:arcTo wR="9058" hR="21600" stAng="-5612737" swAng="-5187263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762120"/>
            <a:ext cx="914400" cy="609480"/>
          </a:xfrm>
          <a:prstGeom prst="flowChartDocumen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7480" y="30420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2680" y="6049080"/>
            <a:ext cx="46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How JSP and Beans Work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886200"/>
            <a:ext cx="1828800" cy="53352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114440" y="4114800"/>
            <a:ext cx="685800" cy="0"/>
          </a:xfrm>
          <a:prstGeom prst="line">
            <a:avLst/>
          </a:prstGeom>
          <a:ln cap="rnd" w="28440">
            <a:solidFill>
              <a:srgbClr val="99ccff"/>
            </a:solidFill>
            <a:custDash>
              <a:ds d="100000" sp="1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91320" y="3352680"/>
            <a:ext cx="0" cy="533520"/>
          </a:xfrm>
          <a:prstGeom prst="line">
            <a:avLst/>
          </a:prstGeom>
          <a:ln cap="rnd" w="28440">
            <a:solidFill>
              <a:srgbClr val="99ccff"/>
            </a:solidFill>
            <a:custDash>
              <a:ds d="100000" sp="1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3:49:05Z</dcterms:created>
  <dc:creator>Kun Yan</dc:creator>
  <dc:description/>
  <dc:language>en-US</dc:language>
  <cp:lastModifiedBy>Robert E. McGrath</cp:lastModifiedBy>
  <dcterms:modified xsi:type="dcterms:W3CDTF">2002-05-15T15:37:44Z</dcterms:modified>
  <cp:revision>44</cp:revision>
  <dc:subject/>
  <dc:title>Slide 1</dc:title>
</cp:coreProperties>
</file>